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FC84-9FFF-45C6-9331-C20B1DB73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95FF-C224-4D96-9E68-635FF408A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24FE-2472-457F-BC53-DBE85E11C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2579-B4D1-4C8B-9917-B86E5D258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6515-CC5C-46ED-9FE7-FE22A5BDD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F130-FFB0-4BE8-AA01-2E8AF3236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DD0A-560D-4D7E-B9A1-291C44FD4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4FE3-39F1-4484-BEAA-0E053E726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1D56-E9D5-4795-BC0E-ED05026ED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F2EE-8537-43C8-BE65-647D5F1B6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8196-E4A0-4195-A1A2-6B4A454A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6425-9557-4359-91BB-83CD86A67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AA427-CBAA-4A8C-A0C9-C7A184521D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2133720"/>
            <a:ext cx="777240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finition of convergence – movement from mono to multi functional technology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Examples (e.g. mobile phone, radio, internet, camera) – pros and cons of old vs new (e.g. music more portable, cheaper), mention very recent tech. (e.g. iPad)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Focus on Computer as example and growth of internet: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Social networking sites (user generated content – “consumer as producer” controlling “means of production” because cheaper, idiot proof – reference Lily Allen as example), reference Marx)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IN FOCUS OF ESSA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- Downloading (refer to Hertfordshire or other data) – legal (“virtual music store” – mention Apple) and illegal, from Napster to present day (P2P file sharing)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Effects on industry (refer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 detai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o EMI (e.g. A&amp;R department, possible merger with Warner, reduced album sales – loss of this as an “art form”) and Hertfordshire data) – is music industry thriving creatively but the big 4 suffering (i.e. is downloading good or bad for the industry do you think?)?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What are institutions (music industry and government) doing to combat effects of this (reference Panorama)?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Streaming (e.g. spotify, youtube) – mention debate about whether or not these can replace illegal downloading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Conclusion – “convergence has effected the way music is consumed, distributed, produced and exhibited……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15:48:46Z</dcterms:created>
  <dc:creator>#</dc:creator>
  <dc:description/>
  <dc:language>en-US</dc:language>
  <cp:lastModifiedBy>maninder singh</cp:lastModifiedBy>
  <dcterms:modified xsi:type="dcterms:W3CDTF">2010-12-08T14:17:49Z</dcterms:modified>
  <cp:revision>7</cp:revision>
  <dc:subject/>
  <dc:title>Definition of convergence</dc:title>
</cp:coreProperties>
</file>